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2.png" ContentType="image/png"/>
  <Override PartName="/ppt/media/image19.jpeg" ContentType="image/jpeg"/>
  <Override PartName="/ppt/media/image7.png" ContentType="image/png"/>
  <Override PartName="/ppt/media/image1.jpeg" ContentType="image/jpeg"/>
  <Override PartName="/ppt/media/image18.png" ContentType="image/png"/>
  <Override PartName="/ppt/media/image15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4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10.png" ContentType="image/pn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move the slide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16A0A-87A2-4F95-943A-CE3002A7341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79C56-F9D0-482E-94E2-99A708D13CE5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C6E82-4936-4809-98A1-D608224742FA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633240"/>
                <a:tab algn="l" pos="1268280"/>
                <a:tab algn="l" pos="1903320"/>
                <a:tab algn="l" pos="2538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F22DE-10B0-48B3-92EB-03C2AA208A4D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FC5D6-15AC-4186-A497-5093B803D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E2951-841F-4922-BDFE-1322E950C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1265F-7D14-4DA4-8CBD-28DA9325C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ADC6E-CCA8-4D66-9224-5DC3EFD3B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04272-2598-4DFC-A280-79F49C4F1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67D97-B3B5-4B74-BA2D-3F240C31B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C5A4F-FEA3-4CB3-8702-38CA96E8E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E2162-B981-4F31-B420-D0A076C44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BDE5C-8D92-4DA3-AA3A-81A0138A5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6BE8F-CCBA-4AC8-AD41-40E3AADB8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63B8A-2890-4A41-811F-CF0F4170B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2AD6C-36E7-463C-A725-694B5BA33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FA08E-3283-4A60-9349-CBE8935FF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2C30A-D2DF-4338-8CB9-657460AFF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2737D-F8E3-4BB8-8B67-C8D0B82D9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913FF-7D43-4F6D-80A4-4B951032F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EB98A-FFF5-4341-A297-7B61A0B1C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35024C-2B5F-4397-850B-8BC97E6CA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4BEF52-95E4-4E6E-9FDF-7B189129C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7CD376-C730-48AB-8E04-095255603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E81FCF-5E4B-4E34-9695-D77834709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2D9B8C-308D-4DE7-AAB0-3F62644EA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0FA19-D2EF-4055-A083-0580FB6D8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E63844-3122-4525-B342-7BF8191BE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605799-4363-41B2-8CC5-FE474C053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4A3897-422C-480A-83AF-F044A7A91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07466B-84CA-459C-83FF-ED4B56FB2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A9FC76-2589-41BC-A73D-295D368DA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A01635-0FD7-4604-90B1-37161755D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B2F8D2-F27C-40DD-ADD9-E9E103492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D9EBC9-4FD0-4657-953E-5B7C21C7C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58CB11-24DB-4AFB-8C74-1E6741BB7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30D5B8-9605-46C5-AB71-7CB312330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E782C-5611-4289-89A3-B568C7807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506A36-CCE8-4E23-9810-21128093D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E42174-2B4C-4C97-A8E1-32F788C0D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0FBCC2-BFC6-4267-9AD9-0C80BEE52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10311B-1D5A-43BE-B878-9D4FE1F2B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2F1ECC-9838-4D93-91F4-61F9C7337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07E6A9-9AEA-4915-9C23-2F52C2DEE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249B77-4FE2-4AAB-9A0E-29422FA48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54EFC9-D8B8-4448-9553-67E7B2472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8883DA-0B83-4086-9E79-3C2F5719A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36FB32-9ABE-4720-8A15-5343C208D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F7EFC-5E08-4000-A03A-0AF22C506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953DDB-5CDA-45DE-8EC6-3950DB92F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19E29F-D014-480E-99CE-78FD9754D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40190A-F7A9-4579-B6AA-C3DAD0C37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C11E57-0F96-4216-A329-2B2DDB094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393149-B746-4FAD-AC86-897AE0C91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698978-6031-487C-A2FB-F7151E4CB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5EB816-B07F-4EB2-AE73-EC0619421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1E7FDA-381F-47DB-BE71-2901071B1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CA941A-7D11-4DCE-9F06-88BD80499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6850FA-F36C-48F4-A5B1-581463EFB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49455-8223-4371-BF2D-34B76FFA1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DE3DEF-8607-41AC-9166-3EA39FFAE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CBCEA-7E59-4A39-A31C-211EF7C84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8805C-B93D-4AC9-A6C9-746C2484F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FADE0-20D2-407D-B9F8-BA89CFB3E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3240" y="5051520"/>
            <a:ext cx="3575160" cy="180648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-1440" y="5051520"/>
            <a:ext cx="9145440" cy="180648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3160" indent="-17316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401760" indent="-16380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630360" indent="-16380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858960" indent="-17316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858960" indent="-1731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858960" indent="-1731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B583C-B0EF-4254-B199-3BFE4D005CB1}" type="datetime">
              <a:rPr b="0" lang="ru-RU" sz="1200" spc="-1" strike="noStrike">
                <a:solidFill>
                  <a:srgbClr val="ffffff"/>
                </a:solidFill>
                <a:latin typeface="Franklin Gothic Book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00F6D-8B3B-4723-B8B8-EB6C18303A9E}" type="slidenum">
              <a:rPr b="0" lang="ru-RU" sz="16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ight Triangle 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" name="Freeform 7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3160" indent="-17316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401760" indent="-16380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630360" indent="-16380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858960" indent="-17316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858960" indent="-1731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858960" indent="-1731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C8C8B-13FE-400E-BE6E-F73380345D97}" type="datetime">
              <a:rPr b="0" lang="ru-RU" sz="1200" spc="-1" strike="noStrike">
                <a:solidFill>
                  <a:srgbClr val="ffffff"/>
                </a:solidFill>
                <a:latin typeface="Franklin Gothic Book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59D2B-D62C-4C60-81F8-2D6C06518920}" type="slidenum">
              <a:rPr b="0" lang="ru-RU" sz="16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7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7" name="Right Triangle 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3160" indent="-17316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401760" indent="-16380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630360" indent="-16380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858960" indent="-17316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858960" indent="-1731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858960" indent="-1731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97358-E46D-4416-B179-E5AD35D2CB7A}" type="datetime">
              <a:rPr b="0" lang="ru-RU" sz="1200" spc="-1" strike="noStrike">
                <a:solidFill>
                  <a:srgbClr val="ffffff"/>
                </a:solidFill>
                <a:latin typeface="Franklin Gothic Book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BD7E3-E1D8-43E3-B6A5-28C2FF372D14}" type="slidenum">
              <a:rPr b="0" lang="ru-RU" sz="16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ight Triangle 1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0" name="Right Triangle 17"/>
          <p:cNvSpPr/>
          <p:nvPr/>
        </p:nvSpPr>
        <p:spPr>
          <a:xfrm rot="5400000">
            <a:off x="433440" y="-433440"/>
            <a:ext cx="6858000" cy="7724880"/>
          </a:xfrm>
          <a:prstGeom prst="rtTriangle">
            <a:avLst/>
          </a:pr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3160" indent="-17316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401760" indent="-16380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630360" indent="-16380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858960" indent="-17316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858960" indent="-1731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858960" indent="-1731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67A19-340E-495E-9266-F902F4E8D1D0}" type="datetime">
              <a:rPr b="0" lang="ru-RU" sz="1200" spc="-1" strike="noStrike">
                <a:solidFill>
                  <a:srgbClr val="ffffff"/>
                </a:solidFill>
                <a:latin typeface="Franklin Gothic Book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434342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434342"/>
                </a:solidFill>
                <a:latin typeface="Franklin Gothic Book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A8289-E7EA-448A-8A6F-21461FBDC53E}" type="slidenum">
              <a:rPr b="0" lang="ru-RU" sz="1600" spc="-1" strike="noStrike">
                <a:solidFill>
                  <a:srgbClr val="434342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ight Triangle 8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3" name="Freeform 9"/>
          <p:cNvSpPr/>
          <p:nvPr/>
        </p:nvSpPr>
        <p:spPr>
          <a:xfrm>
            <a:off x="0" y="5048280"/>
            <a:ext cx="3571920" cy="1809720"/>
          </a:xfrm>
          <a:custGeom>
            <a:avLst/>
            <a:gdLst/>
            <a:ahLst/>
            <a:rect l="l" t="t" r="r" b="b"/>
            <a:pathLst>
              <a:path w="3571875" h="1809750">
                <a:moveTo>
                  <a:pt x="0" y="1809750"/>
                </a:moveTo>
                <a:lnTo>
                  <a:pt x="2038350" y="0"/>
                </a:lnTo>
                <a:lnTo>
                  <a:pt x="3571875" y="1809750"/>
                </a:lnTo>
                <a:lnTo>
                  <a:pt x="0" y="1809750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3160" indent="-17316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401760" indent="-16380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630360" indent="-16380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858960" indent="-17316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858960" indent="-1731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858960" indent="-1731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940FB-02D5-4CEC-8503-1FD61CD237D7}" type="datetime">
              <a:rPr b="0" lang="ru-RU" sz="1200" spc="-1" strike="noStrike">
                <a:solidFill>
                  <a:srgbClr val="ffffff"/>
                </a:solidFill>
                <a:latin typeface="Franklin Gothic Book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F1252-195B-4865-8349-CC594C314809}" type="slidenum">
              <a:rPr b="0" lang="ru-RU" sz="16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.jpe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РОБОТОТЕХНИКА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 В  НАЧАЛЬНОЙ ШКОЛЕ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3" name="Прямоугольник 4"/>
          <p:cNvSpPr/>
          <p:nvPr/>
        </p:nvSpPr>
        <p:spPr>
          <a:xfrm>
            <a:off x="250920" y="2690640"/>
            <a:ext cx="878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4" name="Прямоугольник 5"/>
          <p:cNvSpPr/>
          <p:nvPr/>
        </p:nvSpPr>
        <p:spPr>
          <a:xfrm>
            <a:off x="357120" y="4714920"/>
            <a:ext cx="8786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Выполнила работу: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Небайкина Татьяна Владимировна, 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учитель начальных классов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Муниципальное бюджетное образовательное учреждение 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средняя общеобразовательная школа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г. Кузнецк, 2020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25" name="Рисунок 2" descr=""/>
          <p:cNvPicPr/>
          <p:nvPr/>
        </p:nvPicPr>
        <p:blipFill>
          <a:blip r:embed="rId1"/>
          <a:stretch/>
        </p:blipFill>
        <p:spPr>
          <a:xfrm>
            <a:off x="1873080" y="1090440"/>
            <a:ext cx="5540400" cy="36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Рисунок 13" descr="3.jpg"/>
          <p:cNvPicPr/>
          <p:nvPr/>
        </p:nvPicPr>
        <p:blipFill>
          <a:blip r:embed="rId1"/>
          <a:stretch/>
        </p:blipFill>
        <p:spPr>
          <a:xfrm>
            <a:off x="6329520" y="3424320"/>
            <a:ext cx="2743200" cy="1647720"/>
          </a:xfrm>
          <a:prstGeom prst="rect">
            <a:avLst/>
          </a:prstGeom>
          <a:ln w="0">
            <a:noFill/>
          </a:ln>
        </p:spPr>
      </p:pic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06e94"/>
                </a:solidFill>
                <a:latin typeface="Arial Black"/>
              </a:rPr>
              <a:t>ПРОГРАММА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6" name="Скругленный прямоугольник 8"/>
          <p:cNvSpPr/>
          <p:nvPr/>
        </p:nvSpPr>
        <p:spPr>
          <a:xfrm>
            <a:off x="3500280" y="2857680"/>
            <a:ext cx="2143440" cy="2714400"/>
          </a:xfrm>
          <a:custGeom>
            <a:avLst/>
            <a:gdLst>
              <a:gd name="textAreaLeft" fmla="*/ 104400 w 2143440"/>
              <a:gd name="textAreaRight" fmla="*/ 2039040 w 2143440"/>
              <a:gd name="textAreaTop" fmla="*/ 104400 h 2714400"/>
              <a:gd name="textAreaBottom" fmla="*/ 2610000 h 2714400"/>
            </a:gdLst>
            <a:ahLst/>
            <a:rect l="textAreaLeft" t="textAreaTop" r="textAreaRight" b="textAreaBottom"/>
            <a:pathLst>
              <a:path w="21600" h="27353">
                <a:moveTo>
                  <a:pt x="3600" y="0"/>
                </a:moveTo>
                <a:arcTo wR="3600" hR="3600" stAng="16200000" swAng="-5400000"/>
                <a:lnTo>
                  <a:pt x="0" y="23753"/>
                </a:lnTo>
                <a:arcTo wR="3600" hR="3600" stAng="10800000" swAng="-5400000"/>
                <a:lnTo>
                  <a:pt x="18000" y="2735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1dffb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Целевая аудитория: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ети от 5 лет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7" name="TextBox 10"/>
          <p:cNvSpPr/>
          <p:nvPr/>
        </p:nvSpPr>
        <p:spPr>
          <a:xfrm>
            <a:off x="2571840" y="1500120"/>
            <a:ext cx="1839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58" name="Рисунок 11" descr="1.jpg"/>
          <p:cNvPicPr/>
          <p:nvPr/>
        </p:nvPicPr>
        <p:blipFill>
          <a:blip r:embed="rId2"/>
          <a:stretch/>
        </p:blipFill>
        <p:spPr>
          <a:xfrm>
            <a:off x="2928960" y="957240"/>
            <a:ext cx="3224160" cy="1828800"/>
          </a:xfrm>
          <a:prstGeom prst="rect">
            <a:avLst/>
          </a:prstGeom>
          <a:ln w="0">
            <a:noFill/>
          </a:ln>
        </p:spPr>
      </p:pic>
      <p:sp>
        <p:nvSpPr>
          <p:cNvPr id="259" name="Скругленный прямоугольник 9"/>
          <p:cNvSpPr/>
          <p:nvPr/>
        </p:nvSpPr>
        <p:spPr>
          <a:xfrm>
            <a:off x="5857920" y="928800"/>
            <a:ext cx="2928960" cy="2714400"/>
          </a:xfrm>
          <a:prstGeom prst="roundRect">
            <a:avLst>
              <a:gd name="adj" fmla="val 16667"/>
            </a:avLst>
          </a:prstGeom>
          <a:solidFill>
            <a:srgbClr val="91a7c4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личество часов: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 блока по 24 занятия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60" name="Рисунок 12" descr="2.jpg"/>
          <p:cNvPicPr/>
          <p:nvPr/>
        </p:nvPicPr>
        <p:blipFill>
          <a:blip r:embed="rId3"/>
          <a:stretch/>
        </p:blipFill>
        <p:spPr>
          <a:xfrm>
            <a:off x="0" y="3624120"/>
            <a:ext cx="2438280" cy="1447920"/>
          </a:xfrm>
          <a:prstGeom prst="rect">
            <a:avLst/>
          </a:prstGeom>
          <a:ln w="0">
            <a:noFill/>
          </a:ln>
        </p:spPr>
      </p:pic>
      <p:sp>
        <p:nvSpPr>
          <p:cNvPr id="261" name="Скругленный прямоугольник 7"/>
          <p:cNvSpPr/>
          <p:nvPr/>
        </p:nvSpPr>
        <p:spPr>
          <a:xfrm>
            <a:off x="357120" y="1071720"/>
            <a:ext cx="2928960" cy="2714400"/>
          </a:xfrm>
          <a:prstGeom prst="roundRect">
            <a:avLst>
              <a:gd name="adj" fmla="val 16667"/>
            </a:avLst>
          </a:prstGeom>
          <a:solidFill>
            <a:srgbClr val="f96a1b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орудование: ПК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go WeDo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*)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ектор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кран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62" name="Picture 11" descr=""/>
          <p:cNvPicPr/>
          <p:nvPr/>
        </p:nvPicPr>
        <p:blipFill>
          <a:blip r:embed="rId4"/>
          <a:stretch/>
        </p:blipFill>
        <p:spPr>
          <a:xfrm>
            <a:off x="7524720" y="5300640"/>
            <a:ext cx="1427040" cy="14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713880" y="285480"/>
            <a:ext cx="7664760" cy="427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Конструктор LEGO Education WeDo дает возможность ученикам собрать и запрограммировать простые модели LEGO через приложения в компьютере. В наборе 158 элементов, в том числе двигатель, датчики движения и положения, а также LEGO USB Hub 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15360" indent="-31536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(коммутатор). Совмещая программное 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15360" indent="-31536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обеспечение и учебное пособие, 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15360" indent="-31536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можно выполнить 12 тематических 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15360" indent="-31536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й.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15360" indent="-31536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64" name="Рисунок 5" descr="http://cache.lego.com/r/education/-/media/LEGO%20Education/Home/Images/Products/WeDo/ts.20100922T104512.9580_713x380_MainProduct.png"/>
          <p:cNvPicPr/>
          <p:nvPr/>
        </p:nvPicPr>
        <p:blipFill>
          <a:blip r:embed="rId1"/>
          <a:stretch/>
        </p:blipFill>
        <p:spPr>
          <a:xfrm>
            <a:off x="4788000" y="2133720"/>
            <a:ext cx="5284800" cy="281124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5" descr=""/>
          <p:cNvPicPr/>
          <p:nvPr/>
        </p:nvPicPr>
        <p:blipFill>
          <a:blip r:embed="rId2"/>
          <a:stretch/>
        </p:blipFill>
        <p:spPr>
          <a:xfrm>
            <a:off x="7524720" y="5300640"/>
            <a:ext cx="1427040" cy="14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06e94"/>
                </a:solidFill>
                <a:latin typeface="Arial Black"/>
              </a:rPr>
              <a:t>ТЕМАТИЧЕСКИЙ БЛОК "ЖИВОТНЫЙ МИР":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857160" y="907560"/>
            <a:ext cx="7521840" cy="39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Танцующие птички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Обезьянка-барабанщица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Голодный аллигатор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Порхающая птица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Рычащий лев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кротители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Зайка-барабанщик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Лягушка-квакушка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Жар-птица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Волшебные рыбки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Танцующие утята и пингвинята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Обезьянки на карусели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68" name="Picture 2" descr=""/>
          <p:cNvPicPr/>
          <p:nvPr/>
        </p:nvPicPr>
        <p:blipFill>
          <a:blip r:embed="rId1"/>
          <a:stretch/>
        </p:blipFill>
        <p:spPr>
          <a:xfrm>
            <a:off x="7667640" y="5445000"/>
            <a:ext cx="1062000" cy="106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ru-RU" sz="2800" spc="-1" strike="noStrike">
                <a:solidFill>
                  <a:srgbClr val="506e94"/>
                </a:solidFill>
                <a:latin typeface="Arial Black"/>
              </a:rPr>
              <a:t>ПРЕДПОЛАГАЕМЫЙ РЕЗУЛЬТАТ</a:t>
            </a:r>
            <a:br>
              <a:rPr sz="2800"/>
            </a:br>
            <a:r>
              <a:rPr b="0" lang="ru-RU" sz="2800" spc="-1" strike="noStrike">
                <a:solidFill>
                  <a:srgbClr val="506e94"/>
                </a:solidFill>
                <a:latin typeface="Arial Black"/>
              </a:rPr>
              <a:t>ДЕТЕЙ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857160" y="1125000"/>
            <a:ext cx="4578480" cy="37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Развитие мышления, навыков конструирования и программирования;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Творческого мышления и изобретательности;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Мелкой моторики, внимания, аккуратности;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Повышения мотивации к созданию собственных разработок;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Поиск качественного результата;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Развитие ответственности при командной работе;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Игры и состязания в результате в целях к мотивации к обучению.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71" name="Picture 2" descr=""/>
          <p:cNvPicPr/>
          <p:nvPr/>
        </p:nvPicPr>
        <p:blipFill>
          <a:blip r:embed="rId1"/>
          <a:stretch/>
        </p:blipFill>
        <p:spPr>
          <a:xfrm>
            <a:off x="7524720" y="5229360"/>
            <a:ext cx="1427040" cy="142056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2" descr=""/>
          <p:cNvPicPr/>
          <p:nvPr/>
        </p:nvPicPr>
        <p:blipFill>
          <a:blip r:embed="rId2"/>
          <a:stretch/>
        </p:blipFill>
        <p:spPr>
          <a:xfrm>
            <a:off x="5630760" y="1484280"/>
            <a:ext cx="3114720" cy="26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ru-RU" sz="2800" spc="-1" strike="noStrike">
                <a:solidFill>
                  <a:srgbClr val="506e94"/>
                </a:solidFill>
                <a:latin typeface="Arial Black"/>
              </a:rPr>
              <a:t>ПРЕДПОЛАГАЕМЫЙ РЕЗУЛЬТАТ ВЗРОСЛЫХ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856800" y="1125000"/>
            <a:ext cx="7962840" cy="37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Иметь представление:</a:t>
            </a:r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- о роботах в России и мире;</a:t>
            </a:r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- о межпредметных связях робототехники </a:t>
            </a:r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в рамках ФГОС;</a:t>
            </a:r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- о перспективах развития робототехники;</a:t>
            </a:r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- о методических основах проектной </a:t>
            </a:r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деятельности;</a:t>
            </a:r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Знание основных направлений образования робототехники и основных международных робототехнических стандартах;</a:t>
            </a:r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Умение планировать виды деятельности;</a:t>
            </a:r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Владеть основными понятиями образовательной робототехники;</a:t>
            </a:r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Владеть материальными знаниями: название деталей, моделей роботов, основами программирования.</a:t>
            </a:r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75" name="Picture 2" descr=""/>
          <p:cNvPicPr/>
          <p:nvPr/>
        </p:nvPicPr>
        <p:blipFill>
          <a:blip r:embed="rId1"/>
          <a:stretch/>
        </p:blipFill>
        <p:spPr>
          <a:xfrm>
            <a:off x="7524720" y="5229360"/>
            <a:ext cx="1427040" cy="142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Text Box 2"/>
          <p:cNvSpPr/>
          <p:nvPr/>
        </p:nvSpPr>
        <p:spPr>
          <a:xfrm>
            <a:off x="0" y="907920"/>
            <a:ext cx="9144000" cy="8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616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Таким образом, Конструктор 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ЛЕГО помогает детям и 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взрослым воплощать в жизнь 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свои идеи, строить  и 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фантазировать, увлечённо 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работая и видя конечный 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результат.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77" name="Picture 7" descr="G:\Camera\IMG_20141111_113151.jpg"/>
          <p:cNvPicPr/>
          <p:nvPr/>
        </p:nvPicPr>
        <p:blipFill>
          <a:blip r:embed="rId1"/>
          <a:stretch/>
        </p:blipFill>
        <p:spPr>
          <a:xfrm>
            <a:off x="5508720" y="260280"/>
            <a:ext cx="3432240" cy="457668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8" descr=""/>
          <p:cNvPicPr/>
          <p:nvPr/>
        </p:nvPicPr>
        <p:blipFill>
          <a:blip r:embed="rId2"/>
          <a:stretch/>
        </p:blipFill>
        <p:spPr>
          <a:xfrm>
            <a:off x="7502400" y="5229360"/>
            <a:ext cx="1427400" cy="1420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Объект 1" descr=""/>
          <p:cNvPicPr/>
          <p:nvPr/>
        </p:nvPicPr>
        <p:blipFill>
          <a:blip r:embed="rId1"/>
          <a:stretch/>
        </p:blipFill>
        <p:spPr>
          <a:xfrm>
            <a:off x="723960" y="606600"/>
            <a:ext cx="7043760" cy="447804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800" spc="-1" strike="noStrike">
              <a:solidFill>
                <a:srgbClr val="506e94"/>
              </a:solidFill>
              <a:latin typeface="Arial Black"/>
            </a:endParaRPr>
          </a:p>
        </p:txBody>
      </p:sp>
      <p:pic>
        <p:nvPicPr>
          <p:cNvPr id="228" name="Объект 4" descr=""/>
          <p:cNvPicPr/>
          <p:nvPr/>
        </p:nvPicPr>
        <p:blipFill>
          <a:blip r:embed="rId2"/>
          <a:stretch/>
        </p:blipFill>
        <p:spPr>
          <a:xfrm>
            <a:off x="6699240" y="5326200"/>
            <a:ext cx="2413080" cy="13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06e94"/>
                </a:solidFill>
                <a:latin typeface="Arial Black"/>
              </a:rPr>
              <a:t>КТО ТАКОЙ РОБОТ? 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857160" y="856800"/>
            <a:ext cx="7521840" cy="428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31" name="Рисунок 2" descr=""/>
          <p:cNvPicPr/>
          <p:nvPr/>
        </p:nvPicPr>
        <p:blipFill>
          <a:blip r:embed="rId1"/>
          <a:srcRect l="0" t="15107" r="0" b="0"/>
          <a:stretch/>
        </p:blipFill>
        <p:spPr>
          <a:xfrm>
            <a:off x="1363680" y="914400"/>
            <a:ext cx="6438960" cy="4098960"/>
          </a:xfrm>
          <a:prstGeom prst="rect">
            <a:avLst/>
          </a:prstGeom>
          <a:ln w="0">
            <a:noFill/>
          </a:ln>
        </p:spPr>
      </p:pic>
      <p:pic>
        <p:nvPicPr>
          <p:cNvPr id="232" name="Объект 4" descr=""/>
          <p:cNvPicPr/>
          <p:nvPr/>
        </p:nvPicPr>
        <p:blipFill>
          <a:blip r:embed="rId2"/>
          <a:stretch/>
        </p:blipFill>
        <p:spPr>
          <a:xfrm>
            <a:off x="6699240" y="5326200"/>
            <a:ext cx="2413080" cy="13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06e94"/>
                </a:solidFill>
                <a:latin typeface="Arial Black"/>
              </a:rPr>
              <a:t>РОБОТЫ ЖИВОТНЫЕ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234" name="Объект 2" descr=""/>
          <p:cNvPicPr/>
          <p:nvPr/>
        </p:nvPicPr>
        <p:blipFill>
          <a:blip r:embed="rId1"/>
          <a:stretch/>
        </p:blipFill>
        <p:spPr>
          <a:xfrm>
            <a:off x="1117440" y="1125360"/>
            <a:ext cx="3365640" cy="1872000"/>
          </a:xfrm>
          <a:prstGeom prst="rect">
            <a:avLst/>
          </a:prstGeom>
          <a:ln w="0">
            <a:noFill/>
          </a:ln>
        </p:spPr>
      </p:pic>
      <p:pic>
        <p:nvPicPr>
          <p:cNvPr id="235" name="Объект 4" descr=""/>
          <p:cNvPicPr/>
          <p:nvPr/>
        </p:nvPicPr>
        <p:blipFill>
          <a:blip r:embed="rId2"/>
          <a:stretch/>
        </p:blipFill>
        <p:spPr>
          <a:xfrm>
            <a:off x="6588000" y="5354640"/>
            <a:ext cx="2411640" cy="1357200"/>
          </a:xfrm>
          <a:prstGeom prst="rect">
            <a:avLst/>
          </a:prstGeom>
          <a:ln w="0">
            <a:noFill/>
          </a:ln>
        </p:spPr>
      </p:pic>
      <p:pic>
        <p:nvPicPr>
          <p:cNvPr id="236" name="Рисунок 3" descr=""/>
          <p:cNvPicPr/>
          <p:nvPr/>
        </p:nvPicPr>
        <p:blipFill>
          <a:blip r:embed="rId3"/>
          <a:srcRect l="12986" t="0" r="19290" b="0"/>
          <a:stretch/>
        </p:blipFill>
        <p:spPr>
          <a:xfrm>
            <a:off x="5402160" y="914400"/>
            <a:ext cx="3113280" cy="2585880"/>
          </a:xfrm>
          <a:prstGeom prst="rect">
            <a:avLst/>
          </a:prstGeom>
          <a:ln w="0">
            <a:noFill/>
          </a:ln>
        </p:spPr>
      </p:pic>
      <p:pic>
        <p:nvPicPr>
          <p:cNvPr id="237" name="Рисунок 5" descr=""/>
          <p:cNvPicPr/>
          <p:nvPr/>
        </p:nvPicPr>
        <p:blipFill>
          <a:blip r:embed="rId4"/>
          <a:srcRect l="12706" t="0" r="23621" b="8164"/>
          <a:stretch/>
        </p:blipFill>
        <p:spPr>
          <a:xfrm>
            <a:off x="684360" y="3208320"/>
            <a:ext cx="3456000" cy="3143160"/>
          </a:xfrm>
          <a:prstGeom prst="rect">
            <a:avLst/>
          </a:prstGeom>
          <a:ln w="0">
            <a:noFill/>
          </a:ln>
        </p:spPr>
      </p:pic>
      <p:pic>
        <p:nvPicPr>
          <p:cNvPr id="238" name="Рисунок 6" descr=""/>
          <p:cNvPicPr/>
          <p:nvPr/>
        </p:nvPicPr>
        <p:blipFill>
          <a:blip r:embed="rId5"/>
          <a:srcRect l="1962" t="22000" r="1962" b="12201"/>
          <a:stretch/>
        </p:blipFill>
        <p:spPr>
          <a:xfrm>
            <a:off x="4583160" y="3500280"/>
            <a:ext cx="4201920" cy="16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506e94"/>
              </a:solidFill>
              <a:latin typeface="Arial Black"/>
            </a:endParaRPr>
          </a:p>
        </p:txBody>
      </p:sp>
      <p:pic>
        <p:nvPicPr>
          <p:cNvPr id="240" name="Объект 2" descr=""/>
          <p:cNvPicPr/>
          <p:nvPr/>
        </p:nvPicPr>
        <p:blipFill>
          <a:blip r:embed="rId1"/>
          <a:stretch/>
        </p:blipFill>
        <p:spPr>
          <a:xfrm>
            <a:off x="1116000" y="7920"/>
            <a:ext cx="6699240" cy="5024520"/>
          </a:xfrm>
          <a:prstGeom prst="rect">
            <a:avLst/>
          </a:prstGeom>
          <a:ln w="0">
            <a:noFill/>
          </a:ln>
        </p:spPr>
      </p:pic>
      <p:pic>
        <p:nvPicPr>
          <p:cNvPr id="241" name="Объект 4" descr=""/>
          <p:cNvPicPr/>
          <p:nvPr/>
        </p:nvPicPr>
        <p:blipFill>
          <a:blip r:embed="rId2"/>
          <a:stretch/>
        </p:blipFill>
        <p:spPr>
          <a:xfrm>
            <a:off x="6588000" y="5354640"/>
            <a:ext cx="2411640" cy="13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06e94"/>
                </a:solidFill>
                <a:latin typeface="Arial Black"/>
              </a:rPr>
              <a:t>АЛГОРИТМ РАБОТЫ 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857160" y="907920"/>
            <a:ext cx="7521840" cy="423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44" name="Объект 4" descr=""/>
          <p:cNvPicPr/>
          <p:nvPr/>
        </p:nvPicPr>
        <p:blipFill>
          <a:blip r:embed="rId1"/>
          <a:stretch/>
        </p:blipFill>
        <p:spPr>
          <a:xfrm>
            <a:off x="6588000" y="5354640"/>
            <a:ext cx="2411640" cy="1357200"/>
          </a:xfrm>
          <a:prstGeom prst="rect">
            <a:avLst/>
          </a:prstGeom>
          <a:ln w="0">
            <a:noFill/>
          </a:ln>
        </p:spPr>
      </p:pic>
      <p:pic>
        <p:nvPicPr>
          <p:cNvPr id="245" name="Рисунок 2" descr=""/>
          <p:cNvPicPr/>
          <p:nvPr/>
        </p:nvPicPr>
        <p:blipFill>
          <a:blip r:embed="rId2"/>
          <a:srcRect l="0" t="0" r="0" b="13250"/>
          <a:stretch/>
        </p:blipFill>
        <p:spPr>
          <a:xfrm>
            <a:off x="1751040" y="907920"/>
            <a:ext cx="4802040" cy="50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57160" y="2286000"/>
            <a:ext cx="7715520" cy="15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2060"/>
                </a:solidFill>
                <a:latin typeface="Arial Black"/>
              </a:rPr>
              <a:t>СПАСИБО ЗА ВНИМАНИЕ!</a:t>
            </a: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247" name="Объект 4" descr=""/>
          <p:cNvPicPr/>
          <p:nvPr/>
        </p:nvPicPr>
        <p:blipFill>
          <a:blip r:embed="rId1"/>
          <a:stretch/>
        </p:blipFill>
        <p:spPr>
          <a:xfrm>
            <a:off x="6588000" y="5354640"/>
            <a:ext cx="2411640" cy="13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06e94"/>
                </a:solidFill>
                <a:latin typeface="Arial Black"/>
              </a:rPr>
              <a:t>ИНТЕРГАЦИЯ: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857160" y="1699920"/>
            <a:ext cx="7521840" cy="34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Конструирование;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Математика;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Развитие речи.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50" name="Picture 4" descr="C:\Users\KOTYA\Desktop\1394011927_0848.1000x800.jpeg"/>
          <p:cNvPicPr/>
          <p:nvPr/>
        </p:nvPicPr>
        <p:blipFill>
          <a:blip r:embed="rId1"/>
          <a:stretch/>
        </p:blipFill>
        <p:spPr>
          <a:xfrm>
            <a:off x="4572000" y="1484280"/>
            <a:ext cx="4321080" cy="3219480"/>
          </a:xfrm>
          <a:prstGeom prst="rect">
            <a:avLst/>
          </a:prstGeom>
          <a:ln w="0">
            <a:noFill/>
          </a:ln>
        </p:spPr>
      </p:pic>
      <p:pic>
        <p:nvPicPr>
          <p:cNvPr id="251" name="Объект 4" descr=""/>
          <p:cNvPicPr/>
          <p:nvPr/>
        </p:nvPicPr>
        <p:blipFill>
          <a:blip r:embed="rId2"/>
          <a:stretch/>
        </p:blipFill>
        <p:spPr>
          <a:xfrm>
            <a:off x="6588000" y="5354640"/>
            <a:ext cx="2411640" cy="13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 txBox="1"/>
          <p:nvPr/>
        </p:nvSpPr>
        <p:spPr>
          <a:xfrm>
            <a:off x="826920" y="260280"/>
            <a:ext cx="7521840" cy="358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Данный конструктор позволяет детям работать в качестве юных исследователей, инженеров, математиков. Ребята собирают и программируют действующие модели, а затем используют их для выполнения задач, по сути являющихся упражнениями из образовательных областей: социально-коммуникативные, познавательное и речевое развитие.</a:t>
            </a:r>
            <a:endParaRPr b="1" lang="en-US" sz="30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53" name="Picture 2" descr=""/>
          <p:cNvPicPr/>
          <p:nvPr/>
        </p:nvPicPr>
        <p:blipFill>
          <a:blip r:embed="rId1"/>
          <a:stretch/>
        </p:blipFill>
        <p:spPr>
          <a:xfrm>
            <a:off x="7524720" y="5229360"/>
            <a:ext cx="1427040" cy="142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29T13:21:41Z</dcterms:created>
  <dc:creator>1</dc:creator>
  <dc:description/>
  <dc:language>en-US</dc:language>
  <cp:lastModifiedBy>Пользователь</cp:lastModifiedBy>
  <dcterms:modified xsi:type="dcterms:W3CDTF">2020-08-25T11:35:40Z</dcterms:modified>
  <cp:revision>60</cp:revision>
  <dc:subject/>
  <dc:title>Реализация общеинтеллектуального направления на внеурочных занятиях с помощью конструктора  lego education wedo</dc:title>
</cp:coreProperties>
</file>